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94D-E2D5-463D-B2A8-493477EB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CCE-FE56-461B-BE7C-C51B7597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93D-56D5-4F31-94E5-20B90C9E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E51-A3BE-43D0-983E-22B293A5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2A4-1B0B-4CAE-83F2-103BE84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8D5-1DC8-4633-9720-12C3AE7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600-19C0-41B5-A337-9FED4F3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B0A-A5AF-4A4A-81AB-B5F7BC6D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F5D-6FD2-4122-8ADA-AD07C6F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344-49B9-4C11-86A1-EA2C7A58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AFE-15D7-4DC5-9D39-D721E43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C2E-DB70-4D60-9A98-1371B57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18B6-C5C0-4C5B-A3FB-E6077C4E92D2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8380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كعظيم رحمتكَ وكمثلِ رأفتك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52880" y="533520"/>
            <a:ext cx="3581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محُ مآثمي يا الله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92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920" y="5486400"/>
            <a:ext cx="83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غسلني كثيراً من إثمي ومن خطيئتي طهر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876920" y="368280"/>
            <a:ext cx="406224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لأني أنا عا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بأثا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867280" y="457200"/>
            <a:ext cx="3176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كَ وحدكَ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خطئتُ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الشرَّ قدامك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نعتُ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ا الله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4343400"/>
            <a:ext cx="4495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8600" y="4381560"/>
            <a:ext cx="838188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 تطرحني من أمامِ وجهك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روحكَ القدوس لا تنزعه م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248520" y="1066680"/>
            <a:ext cx="2819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نجني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من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دماء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657600" y="762120"/>
            <a:ext cx="518148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لك يليق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مجدُ يا الل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0:21Z</dcterms:created>
  <dc:creator>user</dc:creator>
  <dc:description/>
  <dc:language>en-US</dc:language>
  <cp:lastModifiedBy>user</cp:lastModifiedBy>
  <dcterms:modified xsi:type="dcterms:W3CDTF">2006-09-01T13:37:14Z</dcterms:modified>
  <cp:revision>9</cp:revision>
  <dc:subject/>
  <dc:title>Slide 1</dc:title>
</cp:coreProperties>
</file>